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D19-A619-4040-B21F-228C4A9A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267-19BB-46BF-82FF-E1C77DF5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628-3CDF-4049-A23B-580B5EED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BC3-FFD6-40AD-9EAE-19A7E349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57DB-4B27-4ACF-A0D6-0B4E8461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0550-C3A4-4422-B06A-5D51FE09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4062-E27F-402E-A534-6F5A8A6D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E953-C842-4565-BFD9-937BFBCC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ADD6-3E96-4BA7-81F4-813B7D18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D2A7-0A5F-40BE-918E-5D4071DE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D2C6-B67F-4C4F-8BE4-17652415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6A2-6658-42E2-BD69-B82CB2DA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EB47-A53E-420D-812C-CD94F3C8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0A04-CEB7-4038-82D0-C01762EF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8D4D-9F43-41E5-8737-7D30C32C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3779-E773-4F27-AD7E-A92A8099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36BD-4991-4113-A230-FB35F6A1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7B2CA-65FB-43A3-818B-61AC4344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F187-B0FB-4A18-935A-84868B39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53B9-62F7-4540-82A8-EC6C66B6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FE194-6DEA-400A-A69D-EF1188FD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C114-E60C-4F25-9A7B-A66A488B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89F-7B9E-4396-8695-09182973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B009-2249-4EBD-89D1-20218D52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CD5F7-DAB9-4DFC-A46C-61EBFAE8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2F9A-F0E9-4796-9B12-0D90A37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7D07-7EE2-4952-8923-756242D5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DFD6-E4BA-4AEC-AC73-FDB81770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F9C2-8C17-4BAC-B7F4-0BD36CCC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6830D-08DB-42FC-ABF2-97694445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0DEA3-476C-45F2-AFC0-22AD3C30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006E-5B95-47D4-8014-18856E2F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B725E-EB9A-469B-A382-1BC8D0FD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4D4-B545-4A56-9784-6C346DAC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BCF55-AEF6-41D7-B114-78916210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138B-DAE1-4C3F-BF6F-6CBC16D8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83B51-C92D-4F0B-8360-36EC868C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87555-20BA-4FB9-A586-76FE8F2A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A1AF-407A-4241-B12C-3AA68CF0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6F25A-DAC2-4954-9EFC-E8D4DB27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8CDF-CED8-4CCB-906C-D756A406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5A5E-808E-4292-85E5-0F1A6300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2B842-751C-4D45-AF6C-B34D74EF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63B76-5731-4BC2-AA81-F30EF31C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CF7-64E3-47A8-96F8-DF29899A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468C3-4CC2-4F48-8238-865D4A7A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2B42C-22F4-4410-818F-714B6CDC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5D12-A22A-4842-A54B-11EB2A15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75111-C06C-475B-BDDC-76495A05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12AF7-DFA4-4FDA-8BFF-2BA1C8EF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8F53-25C9-4136-88C4-23895344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38704-67AF-405B-A351-1B7201D7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A1C8-44DD-4765-A798-28E6E244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1FCDE-D92A-4C46-8735-D659B3D0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594DE-D826-4695-8F56-D0041862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B4D-FD96-4ED7-9028-FFE3FD0C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29384-4A7A-4CB7-91DD-33105C61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765-6893-4186-87A8-2453D546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F11-AF28-409D-86CB-16350A9F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7B2-FC8D-439F-B260-2EF3BA16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8A02-EF1F-4DD4-825B-857DD74A8323}" type="slidenum">
              <a:rPr b="0" lang="es-MX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980B-3B67-4D85-B98F-ADAF992AF169}" type="slidenum">
              <a:rPr b="0" lang="es-MX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F30B-DD0B-41CC-B0F9-292DE91D63C6}" type="slidenum">
              <a:rPr b="0" lang="es-MX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FDDA-F539-48E5-BE05-B1B38D2F7864}" type="slidenum">
              <a:rPr b="0" lang="es-MX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4B5B-BE03-4BB7-9FF9-21D2D82E5422}" type="slidenum">
              <a:rPr b="0" lang="es-MX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450720" y="281160"/>
            <a:ext cx="7255080" cy="725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6840" y="1142640"/>
            <a:ext cx="76150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rebuchet MS"/>
              </a:rPr>
              <a:t>1.- 4ª sesión académic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(Regiones I, II, may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Regiones III y IV may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Región IV  tema articulación y evaluación general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Fecha: 28 al 31 de may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2.-Conferencia taller: </a:t>
            </a:r>
            <a:r>
              <a:rPr b="0" i="1" lang="es-MX" sz="2400" spc="-1" strike="noStrike">
                <a:solidFill>
                  <a:srgbClr val="000000"/>
                </a:solidFill>
                <a:latin typeface="Trebuchet MS"/>
              </a:rPr>
              <a:t>Competencias emocionales docentes. 25 abri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3.- Foro. 26 abril, 24 may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4.- 2ª reunión de articulación. 23 May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5.- Reunión CEAS. 21 mayo, 13 juni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6.- Capacitación GAN y GAE. Módulo II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7.- Asesoría diferenciad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4:59:38Z</dcterms:created>
  <dc:creator>usuario</dc:creator>
  <dc:description/>
  <dc:language>en-US</dc:language>
  <cp:lastModifiedBy>usuario</cp:lastModifiedBy>
  <dcterms:modified xsi:type="dcterms:W3CDTF">2012-04-20T15:37:10Z</dcterms:modified>
  <cp:revision>7</cp:revision>
  <dc:subject/>
  <dc:title>Diapositiva 1</dc:title>
</cp:coreProperties>
</file>